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F70-E965-4EDE-9908-1122C894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237-D424-4F99-ADD6-F6086E83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DE4-269C-4A0A-B5BA-0853A474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2B4-2984-41AB-B54F-6A848D5E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80FA-7370-427B-B649-94E28EF9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7781-183C-4D0D-AC6F-96B77615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F472-FC5D-4E5D-8EE8-2F716F8E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A686-2265-41C5-BE6E-B48BA358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99EB-05D0-4D52-8A9C-66363845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F0CD-ABF9-4E2F-89A0-101D8E6C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6C39-AEA3-49BF-A539-5DA313D9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788-BD33-4D2E-BCBC-5F39C215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7B01-5D5D-4FF4-8351-777CEDEE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903A-31B9-4F9C-B82A-7DE349D1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9AE7-C4B1-42B3-9E6A-611ECFD9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C564-4468-4E0B-ACAE-A03A19CB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A644-F19B-4489-9531-FAF05C61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6871-69DC-4D17-9BB8-EC5CDE0A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032E-57EC-43A3-B120-A62D50B1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B43B-0037-49CB-953D-937AFBED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A20E4-B1B6-4EB8-A63B-D2FF4747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7E8DE-A42A-4AA6-AAFB-88CD9A0A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6C2-9D32-4CDA-A891-164DAEBC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2B0D-66B0-4C2F-9E9D-B10EC05A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F308-BFA0-4000-8371-632AFDD7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7DC4-CEA5-498F-B27D-30A49DB2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B2AB-8E24-4E23-9234-214A6C05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95711-1D35-48FC-876B-924F0F5B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09AC-BEB3-4D73-AEAB-07C95998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F15E-2F0E-4157-B112-C5C0700C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AAEC-EDF1-4B1D-B027-694AC081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D2013-7376-4AB1-97D7-AE221813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2FDC-78CA-4788-96E7-AC6B0C1F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8B3-7D2A-4E43-BD83-452F9587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2FE10-D314-41C1-8FAA-6DF1575A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BEDFE-A541-4B96-835F-5F11517B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4AE97-F154-440D-BF52-9A60A205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DFDB-4566-4EED-87BC-7336AFF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976A-6CE3-4606-BEEF-E64382DE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D9B32-E8A8-434E-92F9-AEC2D1BD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41374-25C1-42CF-8D22-ECEF0A9F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DCCA9-EB66-4B45-A83D-923B6E96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CA934-B176-4ABF-A408-4AA3A7E6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7650A-5BB3-42C0-8A3B-EB685D97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4FB-D99C-44D0-A460-8E878703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4DCC-4DEF-4EFA-84CB-1A20BAAF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40977-BA29-4B41-B755-361251BE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3287-AB8D-45C2-A2BA-230C0F13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7634-C43A-49D9-B906-BC802DED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8710-0392-4038-BF55-BFF05709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92B7-7C06-4A39-9F59-35FBE562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E5B6-7C44-4320-B447-2B959451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5EC22-4841-4A44-9C3C-56C5AD8C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B6424-D252-489B-8786-E592763D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A967B-701A-4106-86C1-35D0A98D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BF4-F362-435E-AB62-CE5C3883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70D22-948A-4E22-BEA8-966A655E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3FCDE-80DA-4247-8904-508AC3BE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DE7BB-834A-4CF5-8CF9-5F551E88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80B80-6DA3-4B7E-B86D-3D426D54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6E7C0-C6A6-4CC7-BA31-073514FD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5CA0F-363D-4A3B-A33E-89C46A07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188F9-B5E2-4D54-965A-37A82582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48104-3115-45B2-AC6F-87B39BF5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F81C4-3023-41D6-94AE-BF4819D0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E6E9-C6A1-4F10-9A0F-DC6111EB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CFB-695F-40F0-8ABC-8864694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3F7AF-A1A8-496E-B15E-2DE46A7B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7E06C-09F9-4FAD-99BE-C057DB91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FDDB1-8423-428E-A151-0A706DDD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77735-EDB8-4830-AEEC-F1085C59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0BA55-DE22-4027-827C-13C06DD2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AEEAD-8E91-486B-9CCB-66666C60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D64C8-AE66-4D14-9FC3-CB73FED3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4E746-832D-4F82-BD5E-0B4CD0BF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F16B7-34B2-4172-B7C4-D2AE06C9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112C5-E32D-4B55-99F4-799D512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9B9-3872-4D35-B3DF-5548F7A1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9B66A-88F8-4948-A6CA-0E634391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88129-E72F-4D41-ADBA-798D43BA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46F6-E640-43CE-847B-BFE28ED3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39B1E-9783-4C67-A037-77A57E54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F9187-D929-4179-AB01-2FBCA542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D37-3F34-473F-BE77-F8439D6D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7086-FAC9-461D-B67B-EA35AC2F8C8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0ECB-9AEE-4CD6-B96C-7C8F6D46B6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9077-BB39-4C72-B406-7B7171BE3D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A5D5-0C6C-4AA0-B682-75B604C88E3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AEEB-0DBC-4156-B8B6-EE518BD28F9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D408-7256-4BBF-A5B7-DE66923D6BD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97DE-C30E-4192-B5B1-A63CF4B67F7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63680" y="19080"/>
            <a:ext cx="8216640" cy="212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85694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Относись к людям так, как бы ты хотел, чтобы относились к тебе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«Если  тебе  плохо,  найди  того,  кому  еще  хуже  и  помоги ему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Поставь себя на место того, кого ты осуждаешь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68360" y="1125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все терпимые и терпеливы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добрые, любящ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уважающие, понимающие, поддерживающие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окружающие друг друга забот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внимательные, отзывчивые, интересующиеся планами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успешные, независимые, счастливые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Содержимое 2"/>
          <p:cNvSpPr/>
          <p:nvPr/>
        </p:nvSpPr>
        <p:spPr>
          <a:xfrm>
            <a:off x="539640" y="163980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хочу больше внутренней мёртвост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поскольку всесилен Ты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чёрств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сцели от глухой слепоты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Я не вижу огромной важности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бесценности важных минут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праздн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позволь ей меня обмануть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Попрошу с неотступною твёрдостью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вечной Твоей любв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горд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створённой в моей кров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Жизнь так мало во мне оставила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Доброты и тепла для людей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дьявола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страшной жертвы Твое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.mp4" descr=""/>
          <p:cNvPicPr/>
          <p:nvPr/>
        </p:nvPicPr>
        <p:blipFill>
          <a:blip r:embed="rId1"/>
          <a:stretch/>
        </p:blipFill>
        <p:spPr>
          <a:xfrm>
            <a:off x="111240" y="1628640"/>
            <a:ext cx="8926560" cy="502128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7" descr=""/>
          <p:cNvPicPr/>
          <p:nvPr/>
        </p:nvPicPr>
        <p:blipFill>
          <a:blip r:embed="rId2"/>
          <a:stretch/>
        </p:blipFill>
        <p:spPr>
          <a:xfrm>
            <a:off x="244440" y="55440"/>
            <a:ext cx="8906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378000" y="2273400"/>
            <a:ext cx="84420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Молодые строптивы без послушания и уважения к старшим. Истину отбросили, обычаев не признают. Никто их не понимает, и они не хотят, чтобы их понимали. Несут миру погибель и станут последним его пределом» (надпись на гробнице фараона, ок. 3500 лет до н.э.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К старости недостатки ума становятся всё заметнее, как и недостатки внешности» (Ф.Ларошфуко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Нет ничего безобразнее старика, который не имеет других доказательств пользы его продолжительной жизни, кроме возраста» (Сенек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3680" y="122400"/>
            <a:ext cx="8242200" cy="1225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ia</a:t>
            </a: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испанский) – способность признавать отличные от своих собственных идеи и мнения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tolerance 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(французский) – отношение, при котором допускается, что другие могут думать или действовать иначе, нежели ты са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e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нглийский) – готовность быть терпимым, снисходительность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rbel"/>
              </a:rPr>
              <a:t>kuan rong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 (китайский) – позволять, принимать, быть по отношению к другим великодуш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asamul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рабский) – прощение, снисходительность, мягкость, милосердие, сострадание, терпение, расположенность к другим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терпимость</a:t>
            </a: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375760" cy="847800"/>
          </a:xfrm>
          <a:prstGeom prst="rect">
            <a:avLst/>
          </a:prstGeom>
          <a:ln w="0">
            <a:noFill/>
          </a:ln>
        </p:spPr>
      </p:pic>
      <p:sp>
        <p:nvSpPr>
          <p:cNvPr id="311" name="Овал 8"/>
          <p:cNvSpPr/>
          <p:nvPr/>
        </p:nvSpPr>
        <p:spPr>
          <a:xfrm>
            <a:off x="755640" y="1341360"/>
            <a:ext cx="230364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рпимо относиться к чужим мнениям, поведени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Овал 9"/>
          <p:cNvSpPr/>
          <p:nvPr/>
        </p:nvSpPr>
        <p:spPr>
          <a:xfrm>
            <a:off x="3708360" y="692280"/>
            <a:ext cx="2158920" cy="14414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ощ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Овал 10"/>
          <p:cNvSpPr/>
          <p:nvPr/>
        </p:nvSpPr>
        <p:spPr>
          <a:xfrm>
            <a:off x="6372360" y="1413000"/>
            <a:ext cx="223200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труднич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Овал 11"/>
          <p:cNvSpPr/>
          <p:nvPr/>
        </p:nvSpPr>
        <p:spPr>
          <a:xfrm>
            <a:off x="539640" y="3141720"/>
            <a:ext cx="223200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страд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Овал 12"/>
          <p:cNvSpPr/>
          <p:nvPr/>
        </p:nvSpPr>
        <p:spPr>
          <a:xfrm>
            <a:off x="6732720" y="3284640"/>
            <a:ext cx="216036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человеческоедостоин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Овал 13"/>
          <p:cNvSpPr/>
          <p:nvPr/>
        </p:nvSpPr>
        <p:spPr>
          <a:xfrm>
            <a:off x="971640" y="4869000"/>
            <a:ext cx="2232000" cy="15127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други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Овал 14"/>
          <p:cNvSpPr/>
          <p:nvPr/>
        </p:nvSpPr>
        <p:spPr>
          <a:xfrm>
            <a:off x="3708360" y="5229360"/>
            <a:ext cx="2232000" cy="14904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инять другого таким, какой он ес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Овал 15"/>
          <p:cNvSpPr/>
          <p:nvPr/>
        </p:nvSpPr>
        <p:spPr>
          <a:xfrm>
            <a:off x="6300720" y="5013360"/>
            <a:ext cx="2303640" cy="14400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быть милосердны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19"/>
          <p:cNvSpPr/>
          <p:nvPr/>
        </p:nvSpPr>
        <p:spPr>
          <a:xfrm>
            <a:off x="3276720" y="2708280"/>
            <a:ext cx="3095640" cy="19954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олеран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ая соединительная линия 21"/>
          <p:cNvSpPr/>
          <p:nvPr/>
        </p:nvSpPr>
        <p:spPr>
          <a:xfrm flipH="1">
            <a:off x="5724000" y="2421000"/>
            <a:ext cx="792360" cy="7920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Прямая соединительная линия 25"/>
          <p:cNvSpPr/>
          <p:nvPr/>
        </p:nvSpPr>
        <p:spPr>
          <a:xfrm flipV="1">
            <a:off x="4932360" y="3406680"/>
            <a:ext cx="770040" cy="3096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ая соединительная линия 28"/>
          <p:cNvSpPr/>
          <p:nvPr/>
        </p:nvSpPr>
        <p:spPr>
          <a:xfrm>
            <a:off x="4823640" y="2708280"/>
            <a:ext cx="878040" cy="9144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ая соединительная линия 31"/>
          <p:cNvSpPr/>
          <p:nvPr/>
        </p:nvSpPr>
        <p:spPr>
          <a:xfrm flipH="1" flipV="1">
            <a:off x="4787640" y="2133720"/>
            <a:ext cx="36360" cy="574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ая соединительная линия 40"/>
          <p:cNvSpPr/>
          <p:nvPr/>
        </p:nvSpPr>
        <p:spPr>
          <a:xfrm>
            <a:off x="2916360" y="2492280"/>
            <a:ext cx="1706400" cy="14907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ая соединительная линия 45"/>
          <p:cNvSpPr/>
          <p:nvPr/>
        </p:nvSpPr>
        <p:spPr>
          <a:xfrm>
            <a:off x="6012000" y="3860640"/>
            <a:ext cx="720720" cy="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52"/>
          <p:cNvSpPr/>
          <p:nvPr/>
        </p:nvSpPr>
        <p:spPr>
          <a:xfrm flipV="1">
            <a:off x="2556000" y="3715920"/>
            <a:ext cx="863640" cy="730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56"/>
          <p:cNvSpPr/>
          <p:nvPr/>
        </p:nvSpPr>
        <p:spPr>
          <a:xfrm>
            <a:off x="4788000" y="4653000"/>
            <a:ext cx="0" cy="5763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66"/>
          <p:cNvSpPr/>
          <p:nvPr/>
        </p:nvSpPr>
        <p:spPr>
          <a:xfrm flipV="1">
            <a:off x="2843280" y="4411440"/>
            <a:ext cx="885600" cy="817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70"/>
          <p:cNvSpPr/>
          <p:nvPr/>
        </p:nvSpPr>
        <p:spPr>
          <a:xfrm>
            <a:off x="5795280" y="4292640"/>
            <a:ext cx="841320" cy="9316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9283680" cy="153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345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341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4105440" cy="499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3"/>
          <a:srcRect l="0" t="0" r="28092" b="0"/>
          <a:stretch/>
        </p:blipFill>
        <p:spPr>
          <a:xfrm>
            <a:off x="4356000" y="1700280"/>
            <a:ext cx="46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2"/>
          <a:srcRect l="11765" t="0" r="3257" b="0"/>
          <a:stretch/>
        </p:blipFill>
        <p:spPr>
          <a:xfrm>
            <a:off x="4284720" y="1628640"/>
            <a:ext cx="4680000" cy="4464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3"/>
          <a:srcRect l="13096" t="0" r="17859" b="0"/>
          <a:stretch/>
        </p:blipFill>
        <p:spPr>
          <a:xfrm>
            <a:off x="88920" y="1628640"/>
            <a:ext cx="4176720" cy="4464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4"/>
          <a:srcRect l="11765" t="0" r="3257" b="0"/>
          <a:stretch/>
        </p:blipFill>
        <p:spPr>
          <a:xfrm>
            <a:off x="435600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231840" y="-30240"/>
            <a:ext cx="8845560" cy="1425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Что является причиной конфлик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редные привыч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рузь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ньг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Лен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ла по хозяйству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чёба, рабо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тношения между членами семь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68360" y="1628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оверять друг друг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е повышать голос друг на друг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слышать и слушать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дать совет, выслушать совет другого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поддержать в трудную минут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тараться понять друг друга в любой ситу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2:43:59Z</dcterms:created>
  <dc:creator>wEDOK</dc:creator>
  <dc:description/>
  <dc:language>en-US</dc:language>
  <cp:lastModifiedBy>wEDOK</cp:lastModifiedBy>
  <dcterms:modified xsi:type="dcterms:W3CDTF">2011-12-18T20:41:28Z</dcterms:modified>
  <cp:revision>48</cp:revision>
  <dc:subject/>
  <dc:title>Классный час</dc:title>
</cp:coreProperties>
</file>